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827-8A89-45CF-90F8-85EFEF09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77D-DC53-43D6-A72B-A1F5B33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768-CC4A-47E5-88F6-8783F703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0C8-B7C1-45B9-B4A9-40D384B2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B6E-D1F0-482D-8A4D-16A481EE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E902-2C7A-41FC-8355-5DA721A7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8FA9-53CA-47BC-9427-0883991D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BF91-2150-4ABC-B52A-81E8FE1E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7A53-66BE-4A73-86FF-79E56F2C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9B5-4E1E-4237-A48D-5038BE7E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8E23-F52F-46A0-B7D1-3B26FE6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DDBF-5077-4D68-8AEF-72BFD64C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E5EE-511E-46FC-ADBE-88DB164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FB1F-AA95-4DF5-AEF5-3DA1A37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657C-E576-40A4-99CD-95D0B1A87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61B7-4E46-4F87-9908-862C9DBD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59A-B740-49C7-A93E-0BED6DB33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0D7C-F0F2-4391-B5C2-D6A690BB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3DF9-7C02-4CF7-BC2D-7DA050B6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CF08-9A9E-4D5B-A032-412B4FED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2029-375D-403C-9C1E-C640250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DFBC-47F3-4B1D-9CAB-8CE2B634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9904-7D96-4996-A2B7-87B12929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63E9-7E51-48F1-840C-A626C393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3C21-80E7-47B7-A619-57C98CA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16FF-E673-47C3-8A37-05CEA5B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302E6-A238-483B-A900-FDAFD6C3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A43D-870D-4375-AA58-A266FBE5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FC859-2903-4901-86AE-A80EA91C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372B0-16FD-418E-B3EC-398AEA19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9A3F-0C5E-4E1E-B610-5026774C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41787-C077-4DC6-AA28-8121E89F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9C1E-7834-4E11-B744-8F8DA9C0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96C-1835-41CC-BED7-AD5BD262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E300-7714-47CE-A1E7-3C4D602B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A5DC3-812F-4D3C-8638-2BF85E4F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F4D9-540B-4299-8287-A4FB317C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A0854-7141-4B1F-8CF2-0E16D4C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1A69A-88BA-42E8-8EDC-9F26B33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C8018-BE70-4220-83FB-8673354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5484-B5D2-474C-8AED-8562094C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5B27-91A2-4FA9-B94E-3900C59C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A50A-AC10-43C6-94E4-30A3DC05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DE1CA-72DA-4FCC-A679-51642E654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9563-012D-47C2-ABAA-9D07551F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35D9E-7327-4518-A83E-2D91F72B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42FE-9DFE-4D91-8DF2-AA866EA2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E3D8-559A-40E7-88B1-6ADA4548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F25E9-C1F9-4FB1-A9E8-5EF8EBD8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66922-5E6B-488F-91FC-B96614CD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D918-1BA4-4977-8265-C23D0A6D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A05EB-E0E3-4EF9-9A09-189D1E30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6504C-30F0-4834-9518-7627FB0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2EA06-CCFF-4B61-BA27-CC5B2ECA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FCFBA-026A-45E8-8A85-6A2CE5C7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13B-6181-4678-8E2F-F96F0DFE6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166B0-BECD-4605-9F90-3A11114F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862-1524-43CA-AE34-AEEC82FB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14BB-8A1D-4ED3-80AF-F8E87C06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0FDA-2EC9-4FEE-BEA7-7A687246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E53FEA-D6EB-4506-AD55-F79D519E1B81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203AF-3E62-49B7-ADC0-88BD6E4FFD7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EDA7F-9138-4051-8D4A-3AB7B4146E46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EE556-9B4E-42E3-8A31-535337A68D7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A17FA-1180-4CBE-AAFA-2FD5DE733CA2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F8EB06-9DC0-430B-9ECB-6B2D44C0010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68204-37BF-41F4-9D87-FEE1C2DA1EC2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7B366-34AD-4142-B7EC-6EE327571E6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E15C2-0132-4100-8F4D-474799A631F0}" type="datetime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D7561-D0A5-4573-AC8C-5CE6FBE129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Cold War: Key Event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Muskies!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ld War Key Even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we will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804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eks 5 and 6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d War Key Events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53000" y="14479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significance of events leading up to the Cold W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ine Marshall Plan, Truman Doctr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08:56:53Z</dcterms:created>
  <dc:creator>Craig Rush</dc:creator>
  <dc:description/>
  <dc:language>en-US</dc:language>
  <cp:lastModifiedBy>Craig Rush</cp:lastModifiedBy>
  <dcterms:modified xsi:type="dcterms:W3CDTF">2012-02-13T08:58:58Z</dcterms:modified>
  <cp:revision>1</cp:revision>
  <dc:subject/>
  <dc:title>Cold War: Key Events</dc:title>
</cp:coreProperties>
</file>